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6DE87-5C78-4799-9ADE-5E281C8E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D6C67-0B0C-4CB9-8687-0BB38EA7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E126-5C19-47EF-AFCF-14C49DB34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B72E-900D-43CC-B187-3149E643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40B0-8D6C-4ED4-A327-41599C3C4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AC4F-7547-4692-8504-32676E1DC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A79D-A534-425E-B061-ECF3CBBB1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CCBC-5FD7-4681-B6AD-302652E33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3731-0029-4930-B1B0-E546E6798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5F65-2077-41CB-B17E-788BBA67B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1E5F-008B-4F3F-B9EE-1AABFE704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E027-FC70-42DC-AA3F-DDA655034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34BC-2AC6-4B40-8AB5-116BC13AA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0CB2-469A-4AA5-9F08-25C95CD08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9C75-5388-416E-893A-FD0155C994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5: A Few More Principles/Cognitive Psychology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ty - authenticity,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ity - change,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- not just product bu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- feeling of wholeness, transportation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- clear, fluid, seamless use and transitions among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is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ve/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/Short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storage - 30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earsal and repetition - visual and spa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” - mnemonics and relations help memor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 unlimited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- most working memory is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- we remember things in context and connection - whether the connections make sens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odal and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- specific “bits” and their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- relati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are not good at recall, excellent a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 are not good at recognition, excellent at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memory - decay and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– changes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active (new information corrupts connections to 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active (previous information confounds absorption of n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d networks (e.g., neurological disor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to human activity - a lot of “human error” can be traced to inappropriate or unfocused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mory, complex as well, influenced by man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led vs. Auto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- focused but limited, slow but thorough, hard to sustain for long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- fast, allows for multitasking, nearly subconscious - but also vague and spora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/peripher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/physical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ng things to atten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first assignment up on wiki – some discussion and examples in lab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on cognitive psychology and Design - Ch. 5, 6,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inci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ve/universal design principles to address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ability is the norm, not th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s for people with disabilities work for other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user experience is affected by design constraint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Univers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right” size and space (p.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 Decision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hard to design everything for everyone - how to de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/changing - is difference innate and immutable, or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/rare - is difference a reasonably common occur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/Expensive - what is the cost of accommo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s of product acceptability/adoption – strongly influenced by the right mix of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balance more complex than most designers or businesspeople care to admit – many factors unknown or unknow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- trust, organiz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effects – social diffusion of innovations, hubs/links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ence – sufficiently easy, effor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or social habits – violation and/or evolution of social n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ness - relevance to activities in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- price points, changes in business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bond, attachment - a feeling of personal relationship, even anthropomorphism (exampl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both aesthetics and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8:27Z</dcterms:created>
  <dc:creator/>
  <dc:description/>
  <dc:language>en-US</dc:language>
  <cp:lastModifiedBy>Sheridan College</cp:lastModifiedBy>
  <dcterms:modified xsi:type="dcterms:W3CDTF">2009-01-26T20:05:56Z</dcterms:modified>
  <cp:revision>19</cp:revision>
  <dc:subject/>
  <dc:title>CCT 333: Imagining the Audience in a Wired World</dc:title>
</cp:coreProperties>
</file>